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197760" y="1409760"/>
            <a:ext cx="586728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197760" y="6513120"/>
            <a:ext cx="58672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204480" y="478800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9776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204480" y="6513120"/>
            <a:ext cx="286308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818136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0165320" y="478800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1977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818136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10165320" y="6513120"/>
            <a:ext cx="1888920" cy="157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044440"/>
            <a:ext cx="10464840" cy="285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95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092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t">
            <a:normAutofit fontScale="2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50418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91476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243800" indent="-3888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1572840" indent="-3888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190152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1901520" indent="-3884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1901520" indent="-3884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42" name="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92000" indent="-5252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1236600" indent="-5252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681200" indent="-5256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2125800" indent="-5256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2570040" indent="-5252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2570040" indent="-5252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2570040" indent="-5252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381" name="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269720" y="786960"/>
            <a:ext cx="10464840" cy="817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29440" indent="-56556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69720" indent="-56556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2" marL="1710000" indent="-56592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3" marL="2149920" indent="-56592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4" marL="2589840" indent="-565560">
              <a:spcBef>
                <a:spcPts val="47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5" marL="2589840" indent="-565560">
              <a:spcBef>
                <a:spcPts val="47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6" marL="2589840" indent="-565560">
              <a:spcBef>
                <a:spcPts val="47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00280" y="7797960"/>
            <a:ext cx="634968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59440" y="7797960"/>
            <a:ext cx="504180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1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2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3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4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5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6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t">
            <a:normAutofit fontScale="7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00280" y="7797960"/>
            <a:ext cx="634968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759440" y="7797960"/>
            <a:ext cx="504180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1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2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3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4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5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6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772040" y="2615760"/>
            <a:ext cx="396252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14800" indent="-34128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803520" indent="-34128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092600" indent="-3416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1381680" indent="-3416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1670400" indent="-34128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1670400" indent="-34128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1670400" indent="-34128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643" name="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1" marL="128268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2" marL="1727280" indent="-5716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3" marL="2171880" indent="-57168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4" marL="261612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5" marL="2616120" indent="-571320">
              <a:spcBef>
                <a:spcPts val="1800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lvl="6" marL="2616120" indent="-571320">
              <a:spcBef>
                <a:spcPts val="1800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40" name="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69720" y="2615760"/>
            <a:ext cx="50418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8608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Click to edit the outline text format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1" marL="91476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con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2" marL="1243800" indent="-3888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Third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3" marL="1572840" indent="-3888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our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4" marL="1901520" indent="-38844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Fif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5" marL="1901520" indent="-3884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ix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lvl="6" marL="1901520" indent="-388440">
              <a:spcBef>
                <a:spcPts val="2999"/>
              </a:spcBef>
              <a:buClr>
                <a:srgbClr val="3f3f3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Seventh Outline Level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  <p:sp>
        <p:nvSpPr>
          <p:cNvPr id="79" name="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1080" y="698040"/>
            <a:ext cx="5689440" cy="16383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a1a1a"/>
                </a:solidFill>
                <a:latin typeface="Copperplate"/>
              </a:rPr>
              <a:t>Click to edit the title text format</a:t>
            </a:r>
            <a:endParaRPr b="0" lang="en-US" sz="3800" spc="-1" strike="noStrike">
              <a:solidFill>
                <a:srgbClr val="1a1a1a"/>
              </a:solidFill>
              <a:latin typeface="Copperplat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201080" y="7467120"/>
            <a:ext cx="5689440" cy="163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rmAutofit fontScale="7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1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2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3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4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5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  <a:p>
            <a:pPr lvl="6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97760" y="140976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197760" y="4788000"/>
            <a:ext cx="5867280" cy="3301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t">
            <a:normAutofit fontScale="7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1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2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3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4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5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lvl="6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6629040"/>
            <a:ext cx="10464840" cy="2120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8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742840"/>
            <a:ext cx="10464840" cy="4267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8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267" name=""/>
          <p:cNvSpPr/>
          <p:nvPr/>
        </p:nvSpPr>
        <p:spPr>
          <a:xfrm>
            <a:off x="1422360" y="2019240"/>
            <a:ext cx="10164960" cy="0"/>
          </a:xfrm>
          <a:prstGeom prst="line">
            <a:avLst/>
          </a:prstGeom>
          <a:ln w="12600">
            <a:solidFill>
              <a:srgbClr val="a5a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bfbfb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10972800" cy="6553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500"/>
            </a:br>
            <a:r>
              <a:rPr b="0" lang="en-US" sz="9500" spc="-1" strike="noStrike">
                <a:solidFill>
                  <a:srgbClr val="dfdfdf"/>
                </a:solidFill>
                <a:latin typeface="Copperplate"/>
              </a:rPr>
              <a:t>Biography of</a:t>
            </a:r>
            <a:br>
              <a:rPr sz="9500"/>
            </a:br>
            <a:r>
              <a:rPr b="0" lang="en-US" sz="9500" spc="-1" strike="noStrike">
                <a:solidFill>
                  <a:srgbClr val="dfdfdf"/>
                </a:solidFill>
                <a:latin typeface="Copperplate"/>
              </a:rPr>
              <a:t>Joseph Pulitzer</a:t>
            </a:r>
            <a:br>
              <a:rPr sz="9500"/>
            </a:br>
            <a:br>
              <a:rPr sz="1400"/>
            </a:br>
            <a:r>
              <a:rPr b="0" lang="en-US" sz="3600" spc="-1" strike="noStrike">
                <a:solidFill>
                  <a:srgbClr val="dfdfdf"/>
                </a:solidFill>
                <a:latin typeface="Copperplate"/>
              </a:rPr>
              <a:t>by: Jake Reisner</a:t>
            </a:r>
            <a:br>
              <a:rPr sz="3600"/>
            </a:br>
            <a:br>
              <a:rPr sz="1400"/>
            </a:br>
            <a:br>
              <a:rPr sz="1400"/>
            </a:br>
            <a:br>
              <a:rPr sz="4800"/>
            </a:br>
            <a:endParaRPr b="0" lang="en-US" sz="3600" spc="-1" strike="noStrike">
              <a:solidFill>
                <a:srgbClr val="dfdfdf"/>
              </a:solidFill>
              <a:latin typeface="Copperplate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4952880" y="62485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1061748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Why did Joseph Pulitzer leave Hungary?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104648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He wanted to be in the military.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He was rejected by the Austrian Army and the French Foreign Legion.  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He moved to Boston, MA to enlist in the Union Army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7137360" y="3098880"/>
            <a:ext cx="4838760" cy="64008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78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When did he immigrate to the U.S. and how did he get there?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69720" y="3428640"/>
            <a:ext cx="504180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43120" indent="-5256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In 1864, he immigrated to Boston.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  <a:p>
            <a:pPr marL="843120" indent="-5256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He traveled by ship.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6972480" y="2830680"/>
            <a:ext cx="4800600" cy="634968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269720" y="266760"/>
            <a:ext cx="1046484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what was his life like before he left for the U.S.?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269720" y="2615760"/>
            <a:ext cx="504180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43120" indent="-525600">
              <a:spcBef>
                <a:spcPts val="2999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Palatino"/>
              </a:rPr>
              <a:t>Joseph came from a wealthy family in Hungary.  His father died.  He was weak lunged and had faulty vision so he was unable to have an army career in Europe.</a:t>
            </a:r>
            <a:endParaRPr b="0" lang="en-US" sz="36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841320" y="660240"/>
            <a:ext cx="6197760" cy="840744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201080" y="698400"/>
            <a:ext cx="5689440" cy="8267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1a1a1a"/>
                </a:solidFill>
                <a:latin typeface="Copperplate"/>
              </a:rPr>
              <a:t>What were some challenges he faced?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1a1a1a"/>
                </a:solidFill>
                <a:latin typeface="Copperplate"/>
              </a:rPr>
              <a:t>He was a laborer (a poorly paying job).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1a1a1a"/>
                </a:solidFill>
                <a:latin typeface="Copperplate"/>
              </a:rPr>
              <a:t>He was in the union Army for one year.</a:t>
            </a:r>
            <a:endParaRPr b="0" lang="en-US" sz="3800" spc="-1" strike="noStrike">
              <a:solidFill>
                <a:srgbClr val="1a1a1a"/>
              </a:solidFill>
              <a:latin typeface="Copperplat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69720" y="254160"/>
            <a:ext cx="10464840" cy="386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opperplate"/>
              </a:rPr>
              <a:t>How did he overcome the challenges he faced?</a:t>
            </a:r>
            <a:endParaRPr b="0" lang="en-US" sz="64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269720" y="4114800"/>
            <a:ext cx="10464840" cy="478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1800"/>
              </a:spcBef>
              <a:buClr>
                <a:srgbClr val="40404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04040"/>
                </a:solidFill>
                <a:latin typeface="Palatino"/>
              </a:rPr>
              <a:t>He overcame his challenges by becoming a U.S. citizen and becoming a St. Louis reporter.</a:t>
            </a:r>
            <a:endParaRPr b="0" lang="en-US" sz="4200" spc="-1" strike="noStrike">
              <a:solidFill>
                <a:srgbClr val="404040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172200" y="151920"/>
            <a:ext cx="5867280" cy="5118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fdfdf"/>
                </a:solidFill>
                <a:latin typeface="Copperplate"/>
              </a:rPr>
              <a:t>How did Pulitzer contribute to our culture? </a:t>
            </a: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172200" y="5257800"/>
            <a:ext cx="5867280" cy="3936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opperplate"/>
              </a:rPr>
              <a:t>He was one of the greatest American newspaper publishers in history.  when he died he left $2 million to Columbia university and established the Pulitzer Prize.</a:t>
            </a:r>
            <a:endParaRPr b="0" lang="en-US" sz="3200" spc="-1" strike="noStrike">
              <a:solidFill>
                <a:srgbClr val="bfbfbf"/>
              </a:solidFill>
              <a:latin typeface="Copperplate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548640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1447920" y="1447920"/>
            <a:ext cx="10058400" cy="7772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People win Pulitzer prizes every year…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Copperplate"/>
              </a:rPr>
              <a:t>Columbia university hosts the Pulitzer prizes. The prizes are dedicated to Joseph Pulitzer.The Pulitzer Prizes will be awarded April 12, 2010. Just wait ‘till you get one! </a:t>
            </a:r>
            <a:endParaRPr b="0" lang="en-US" sz="3600" spc="-1" strike="noStrike">
              <a:solidFill>
                <a:srgbClr val="bfbfbf"/>
              </a:solidFill>
              <a:latin typeface="Copperplate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2057400" y="6705720"/>
            <a:ext cx="8458200" cy="25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9982080" cy="4343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dfdfdf"/>
                </a:solidFill>
                <a:latin typeface="Copperplate"/>
              </a:rPr>
              <a:t>I HOPE YOU LIKED MY PRESENTATION ON JOSEPH PULITZER!!!!!!!!!</a:t>
            </a:r>
            <a:endParaRPr b="0" lang="en-US" sz="70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nssd112</cp:lastModifiedBy>
  <dcterms:modified xsi:type="dcterms:W3CDTF">2010-03-24T19:08:15Z</dcterms:modified>
  <cp:revision>3</cp:revision>
  <dc:subject/>
  <dc:title>Biography of Joseph Pulitzer  by: Jake Reisner   b </dc:title>
</cp:coreProperties>
</file>